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39561"/>
        <c:axId val="35802817"/>
      </c:barChart>
      <c:catAx>
        <c:axId val="76239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02817"/>
        <c:crosses val="autoZero"/>
        <c:auto val="1"/>
        <c:lblAlgn val="ctr"/>
        <c:lblOffset val="100"/>
        <c:noMultiLvlLbl val="0"/>
      </c:catAx>
      <c:valAx>
        <c:axId val="358028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39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A7C6-B155-40AF-BF42-C5902AAD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4B08-CC12-4506-A91E-46BC03BE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686-635E-4C35-B0A6-B5777A797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004-54A6-4974-8D2B-D0714929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3AA8-27D2-4F54-A0E5-EF233645A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548-0337-42F9-BC8B-DF214743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E2F3-7DDC-4442-BF19-D252642E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4E31-101B-4CEF-80E1-D4B23AA86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1DCD-C842-47D1-9C4D-4B1B1A6C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EEAF-C893-43CD-AB90-9BD9A6F61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AA3-121C-4976-B99C-8F93C495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FB9-894B-4FFC-8318-2E14CC53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4A295-7A55-4DED-A2BA-9760222B87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