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72863"/>
        <c:axId val="51490135"/>
      </c:barChart>
      <c:catAx>
        <c:axId val="35072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90135"/>
        <c:crosses val="autoZero"/>
        <c:auto val="1"/>
        <c:lblAlgn val="ctr"/>
        <c:lblOffset val="100"/>
        <c:noMultiLvlLbl val="0"/>
      </c:catAx>
      <c:valAx>
        <c:axId val="51490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72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020-2A87-4FC0-B766-854422BB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366-D93B-4C9B-826C-80CF964D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D6A-834E-4F02-97CD-0C785A95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DBC-B57F-4F3B-94DF-B32CB1C0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400-C56F-46AF-A75F-7ACB7419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448-C963-443B-8E38-8B936B61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EFD-A941-48E5-B5A5-6DCDE84D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50A-41A3-4EBE-8220-50899DE2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242-FE70-4213-8A2A-A560FCB2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C96-A76B-4186-B5B6-B796E28F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7E2-C23B-4784-BF45-AB5DEE87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126-6907-4329-95F0-F806D1E3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1E862-B5A2-45F0-9203-6669C9ACCA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