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55814"/>
        <c:axId val="37355665"/>
      </c:barChart>
      <c:catAx>
        <c:axId val="56455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55665"/>
        <c:crosses val="autoZero"/>
        <c:auto val="1"/>
        <c:lblAlgn val="ctr"/>
        <c:lblOffset val="100"/>
        <c:noMultiLvlLbl val="0"/>
      </c:catAx>
      <c:valAx>
        <c:axId val="37355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55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AC4-588F-4F91-BB3D-7736A640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E0E-22B5-4D5E-A3AB-AC3B36D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625-984B-45D3-AA5F-D9A46232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E59-2095-4B4D-A05C-E020EB9B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122-118D-403E-8613-7FDB96B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E65-2941-4C5C-B599-86B17AF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F74-7CFC-46A8-95CF-19B5BF8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A21-9571-4D96-ACA4-7ADCC6A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F2F-A2AD-4EA5-8F9B-69E859C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4B7-13E3-4B0B-BABF-9D97942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C38-95BD-4E38-A547-4B42B36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633-5D50-49EE-8982-910A314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C7629-109F-4D61-B96E-31D394002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