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985180"/>
        <c:axId val="16676342"/>
      </c:barChart>
      <c:catAx>
        <c:axId val="969851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76342"/>
        <c:crosses val="autoZero"/>
        <c:auto val="1"/>
        <c:lblAlgn val="ctr"/>
        <c:lblOffset val="100"/>
        <c:noMultiLvlLbl val="0"/>
      </c:catAx>
      <c:valAx>
        <c:axId val="16676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851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9844-392C-44DA-B44E-820E0F1C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6BA9-C0CF-4470-818D-CADD1FFE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68E9-6181-4B14-8E56-1EFE8892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5E1F-0331-4467-92EA-7219BE86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6C4-5BFA-45B7-A60F-BED58FAF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60D0-5126-4C64-A54C-6BCD79CD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A281-DF39-4687-9AC2-93B8F5CD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F4F5-7CE7-4CA9-9BD9-4A51A210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996E-DFC9-4F05-ACCE-FD5F42FD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9447-1D61-4870-9F03-3373340D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B0C4-0286-497C-9DC4-35865F09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61D9-7BD6-4347-BB84-5F12DC6F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03A5B-1D04-428B-AFC4-1556B90483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