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74101"/>
        <c:axId val="78445445"/>
      </c:barChart>
      <c:catAx>
        <c:axId val="30174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45445"/>
        <c:crosses val="autoZero"/>
        <c:auto val="1"/>
        <c:lblAlgn val="ctr"/>
        <c:lblOffset val="100"/>
        <c:noMultiLvlLbl val="0"/>
      </c:catAx>
      <c:valAx>
        <c:axId val="78445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74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7D5-9CFD-4613-8745-5E00EB4B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464-4D80-4A64-BCAD-F6FB47B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FA2-EE48-401D-A381-FD4D8BE4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104-EDB2-41E4-B37B-197FF166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F5C-8893-41AB-B5A0-EBF829D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34-CC09-431A-913B-3FC7002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058-F0B3-4673-B60A-8DC247C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9E1-7336-4EE8-8746-28BC4331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B74-BCEE-4A92-97FA-BC46F48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75B-F196-4D3E-9035-394FD8E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F31-B640-49C2-A8BD-0A423880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3EB-9703-4A3E-B6FC-0B504BA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59954-EDC0-40C1-BEAB-A54EC6E1F4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