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11777"/>
        <c:axId val="10115503"/>
      </c:barChart>
      <c:catAx>
        <c:axId val="16111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15503"/>
        <c:crosses val="autoZero"/>
        <c:auto val="1"/>
        <c:lblAlgn val="ctr"/>
        <c:lblOffset val="100"/>
        <c:noMultiLvlLbl val="0"/>
      </c:catAx>
      <c:valAx>
        <c:axId val="10115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11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F4D-31AF-4347-A0BE-77F0E6CA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74C-E8E0-4F1A-A30F-F3C1D4A9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BC8-10F4-48FC-AE5F-F8F493BE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035-C12F-45BE-9BDE-E32B7954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6E7-FF7F-4A49-AACF-4234DAAC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B39-C6A9-4A38-9859-808ADF41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698-B87D-4324-93A8-F5BEC622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5CF-B002-45BE-9576-5DE6B4B1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1D4-0BE2-4E1C-A777-B443660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042-60F4-40DD-B17A-C0E5F5E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244-F177-4973-B2D0-213C667B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A64-AA69-4283-A713-65391E7D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B8C2A-5C90-468D-A199-732B43C272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