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5954"/>
        <c:axId val="13921683"/>
      </c:barChart>
      <c:catAx>
        <c:axId val="2975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1683"/>
        <c:crosses val="autoZero"/>
        <c:auto val="1"/>
        <c:lblAlgn val="ctr"/>
        <c:lblOffset val="100"/>
        <c:noMultiLvlLbl val="0"/>
      </c:catAx>
      <c:valAx>
        <c:axId val="13921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5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643-EA59-4FAF-83AA-D274DDD6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10C-3B5F-47DB-A0C1-31F5753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E5-2EFE-45D6-B561-23F81E98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E12-5982-4AF3-8709-21340CDE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664-7280-4E88-822C-50C9364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EDE-EE77-4B54-9053-C29FC2D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3A5-C93E-46C5-A555-F9B170A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896-B26D-4099-A79E-5DB7AA0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C8F-BEC2-4D2A-B936-CC43EB1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53B-04E1-4DE6-88C4-B138E6A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6EB-8653-4541-BB5E-5E9F570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776-79F7-4D1B-AF2B-099D46C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2C430-DE7F-481F-BDCD-F0A54C5780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