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62882"/>
        <c:axId val="14967867"/>
      </c:barChart>
      <c:catAx>
        <c:axId val="14662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67867"/>
        <c:crosses val="autoZero"/>
        <c:auto val="1"/>
        <c:lblAlgn val="ctr"/>
        <c:lblOffset val="100"/>
        <c:noMultiLvlLbl val="0"/>
      </c:catAx>
      <c:valAx>
        <c:axId val="14967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2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1E9-5639-4147-BA95-BED0D9C0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2E0-4E5A-471C-9F0E-CC404024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E46-D158-4C50-8CE9-D191A9B9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23A-692E-4941-941C-A53F6758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5C1-F919-4831-AA95-751A0CA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846-F516-474F-9828-C5FD12F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E84-E7CD-480F-A19B-5AA5CFB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1A3-68D7-4134-B8C0-9B97FA76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2D4-88AE-4315-884D-E1CF5530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98A-D86A-40A4-B6FD-C2F62EA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4DD-3ADA-4902-A3B7-66ABD54C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E3C-F81D-41C2-B4AA-58A5198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A5B0F-8985-4D71-BEA8-67DBFD0BA2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