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81266"/>
        <c:axId val="13606258"/>
      </c:barChart>
      <c:catAx>
        <c:axId val="72881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06258"/>
        <c:crosses val="autoZero"/>
        <c:auto val="1"/>
        <c:lblAlgn val="ctr"/>
        <c:lblOffset val="100"/>
        <c:noMultiLvlLbl val="0"/>
      </c:catAx>
      <c:valAx>
        <c:axId val="13606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81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8AC-E32F-4D4F-9560-B1E01E64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064-0C6E-4B81-A5C9-B94A1D3E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BD7-EE99-4D72-AEF4-4AD05FEA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7FCD-4EEE-4F04-9FAD-2EA5C2E0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523-79F4-4325-B7CA-B03657A3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680-AFC7-4F10-8590-9B266E82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75CC-A5F6-4DAB-B09F-5785C581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760-DDF7-4A94-B8BA-A4CB772A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3FC-C816-407D-9DFF-A4CD7F9A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8DD-8B4E-4F94-913B-991BD69A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94A1-F220-46E3-AD19-5130D075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B6C-4A41-485D-BA0D-BBB37ACE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AE0FA-06BC-4318-AAC6-9ACCEB9174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