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28291"/>
        <c:axId val="64411341"/>
      </c:barChart>
      <c:catAx>
        <c:axId val="32128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1341"/>
        <c:crosses val="autoZero"/>
        <c:auto val="1"/>
        <c:lblAlgn val="ctr"/>
        <c:lblOffset val="100"/>
        <c:noMultiLvlLbl val="0"/>
      </c:catAx>
      <c:valAx>
        <c:axId val="64411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28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34A-FDF6-41E0-B701-7CE1AEF0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03B-2C5F-4CCC-8AEF-FFC1EE2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3E9-1378-4C5D-8F16-8B484875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304-F4B1-4C4D-8317-70E8197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2F5-DA3E-4533-AFB3-712CFF1E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71F-80AC-49CB-B025-2E2AFFC1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C01-5790-48F3-8528-BD7EC18A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416-9B40-4494-9F30-B32F4E6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985-26FD-4B1B-A8AC-D36C54D0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793-3DF5-4E11-807D-59E8BD3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E37-7447-45EA-8CEB-11A4FFE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870-1194-4975-91F7-F204056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04BC3-35A4-4934-B7C3-82444A0F35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