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68925"/>
        <c:axId val="33484902"/>
      </c:barChart>
      <c:catAx>
        <c:axId val="87568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84902"/>
        <c:crosses val="autoZero"/>
        <c:auto val="1"/>
        <c:lblAlgn val="ctr"/>
        <c:lblOffset val="100"/>
        <c:noMultiLvlLbl val="0"/>
      </c:catAx>
      <c:valAx>
        <c:axId val="33484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8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D8D-B53D-4391-B120-F321CC49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061-CAD0-4BD9-B73C-DB5F4031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654-BC63-4DE8-825C-08F1DE7F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63A-26A9-407E-A5AD-DD16E9B2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7DE-991A-4E19-8E68-76319447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7AD-2219-48B4-9DDA-411486D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6F6-CCA7-4EC3-B6AD-BF0B860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49A-FC36-4D7D-B6B0-53269B9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C8A-E49B-4957-91E7-7C5CB40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D31-3FF2-4029-BDE2-FF69F99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677-A5D2-4695-BF73-815C473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E91-CB2D-45F9-BF19-ACFC942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F8396-E236-479B-AF2C-174002984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