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04244"/>
        <c:axId val="66859707"/>
      </c:barChart>
      <c:catAx>
        <c:axId val="14704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59707"/>
        <c:crosses val="autoZero"/>
        <c:auto val="1"/>
        <c:lblAlgn val="ctr"/>
        <c:lblOffset val="100"/>
        <c:noMultiLvlLbl val="0"/>
      </c:catAx>
      <c:valAx>
        <c:axId val="66859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04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1159-82E8-4DCA-BA5B-7D45D5CB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25D-072E-40D8-991B-CDF963B9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310-74FB-42FF-9657-9DB9DCE6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6BDE-7F69-48C9-97EA-ED8AE829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DD5-E828-43C8-A352-39BDEDF5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D28-1BCC-40F1-BC99-B86D49D4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648-FCDC-4A8B-B287-6C998170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5A0-1DE7-4F5E-88F8-8A475E44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F2A-C877-4AF1-9606-83AECEE1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401-9CA4-4B9C-9D18-99027413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B39-F85F-47A6-9DE3-4CDE7D51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3B5-80CF-418C-80EE-E66F06FF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4D965-C7B4-4DA9-BD57-04E8EBA759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