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68918"/>
        <c:axId val="77019150"/>
      </c:barChart>
      <c:catAx>
        <c:axId val="58868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19150"/>
        <c:crosses val="autoZero"/>
        <c:auto val="1"/>
        <c:lblAlgn val="ctr"/>
        <c:lblOffset val="100"/>
        <c:noMultiLvlLbl val="0"/>
      </c:catAx>
      <c:valAx>
        <c:axId val="77019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68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9A9F-1B27-4331-AE92-128908F0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FC8-4232-40BC-8FEB-389F9F05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296-35BD-437D-9DFE-19630894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B49A-1691-481E-A1C8-FB37799E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5BA-B1E4-4B84-86BD-3A57C5EE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BC7-B6D9-4135-A74D-684254C9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842A-6ABB-4ABC-BABD-BFDF1613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FBA-88C9-4A85-8A3F-2FADF25A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D2E-C1D1-4D31-B7F4-4AD0638B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FCAD-B0FB-467C-94CB-DD8C5814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96C-D53A-4548-AF3F-D9DECFFC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F9F-25BD-45F8-8FE8-BF1CAF1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EE200-5CCF-4D36-AE3B-FAB8D8D436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