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577034"/>
        <c:axId val="8855288"/>
      </c:barChart>
      <c:catAx>
        <c:axId val="965770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55288"/>
        <c:crosses val="autoZero"/>
        <c:auto val="1"/>
        <c:lblAlgn val="ctr"/>
        <c:lblOffset val="100"/>
        <c:noMultiLvlLbl val="0"/>
      </c:catAx>
      <c:valAx>
        <c:axId val="88552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5770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B2D8-0D68-4C77-9D17-4A7D2916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424-3207-4431-9FD3-FF3894E0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471-3DFC-4DBF-84DF-05FB84C65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1512-FB69-498A-AEE9-FE57F184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E118-5C20-4998-8004-077A82FD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F8BE-0D02-4BEF-8361-BFD2DCD5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8ECF-2A01-47BE-8997-C2B31F5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941-ADE5-4769-9C1D-77E7826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E7DF-D8A8-4287-B4EE-057007CC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26FB-D1D5-4A49-97A4-30C9161E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064A-0A27-4CE5-8105-C30EC07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0EB-A919-45D9-AE72-3EE7CEE1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8CD23-8285-49CF-8209-1470FECB691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