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348791"/>
        <c:axId val="23160628"/>
      </c:barChart>
      <c:catAx>
        <c:axId val="803487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160628"/>
        <c:crosses val="autoZero"/>
        <c:auto val="1"/>
        <c:lblAlgn val="ctr"/>
        <c:lblOffset val="100"/>
        <c:noMultiLvlLbl val="0"/>
      </c:catAx>
      <c:valAx>
        <c:axId val="231606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3487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5914-A08D-439F-98E1-6FDBE0BCE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C186-87B9-4FF2-B251-AD7095B5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60D9-1D6C-4A8F-B828-D57A6751A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4B5A-442E-4F9B-8759-07FD84D67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2E12-849D-4196-95C3-23E7E1CA3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4CA6-C99C-4E20-B70E-5A8FAF357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A31C-D80F-4EBA-A38C-EF8B56AA7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E100-BDFB-438C-AABF-D7F703AF8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7DC6-1E40-463B-9CB2-87295C110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C49F-CFF1-4FF3-A2F1-6EA77AD4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331D-27BA-4011-8212-04799119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B4E9-96F0-4D72-A5F1-8B6B6CF8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824858-6BDC-46D3-9F65-17F36280113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