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06095"/>
        <c:axId val="13676084"/>
      </c:barChart>
      <c:catAx>
        <c:axId val="75106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76084"/>
        <c:crosses val="autoZero"/>
        <c:auto val="1"/>
        <c:lblAlgn val="ctr"/>
        <c:lblOffset val="100"/>
        <c:noMultiLvlLbl val="0"/>
      </c:catAx>
      <c:valAx>
        <c:axId val="13676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06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E9A-2B25-45C9-8097-A7C9F52F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ADD-8816-4A64-9FEE-7A7A232F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D40-174A-45FC-84E0-E382325B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1B7-9A8D-4E5F-AA06-15178064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728-BBF0-4802-BF76-DEF40B2C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957-E117-4367-BCBC-7C4DCE31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5D4-39BC-4770-9ABB-EB26CFB7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AE1-6000-4667-9B15-5CA993F7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39E-357F-4CC7-80A8-4B944713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3D6-71FB-4AC8-99A6-40F4C0E0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DD3F-9805-4B1D-9633-C197E792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103-03CE-412A-9DA3-7186ACCB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840FC-A53A-40A3-B554-B07250932D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