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0127"/>
        <c:axId val="3371692"/>
      </c:barChart>
      <c:catAx>
        <c:axId val="6290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1692"/>
        <c:crosses val="autoZero"/>
        <c:auto val="1"/>
        <c:lblAlgn val="ctr"/>
        <c:lblOffset val="100"/>
        <c:noMultiLvlLbl val="0"/>
      </c:catAx>
      <c:valAx>
        <c:axId val="3371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0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71-8CEA-4524-AEB9-B0590F6D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F98-7063-4777-A878-C7862BB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172-5DFC-4173-BC0A-004FC251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FE7-BF0C-416F-8803-C6DCD302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A61-D20D-49C0-8DE8-C6E958A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B6B-8104-4F9B-B8F8-BF2E6F6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45E-415C-439E-B673-2BB7EE2B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BE1-4E6C-4708-B6F1-D535368B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44B-D7B4-465F-8C23-74058DD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186-BBF6-44DD-81F7-8D08975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DA2-E00A-47D5-B628-419A446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B96-87B6-4B6C-B551-ED76039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D7777-E619-44C7-8015-139D946AB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