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71936"/>
        <c:axId val="48391049"/>
      </c:barChart>
      <c:catAx>
        <c:axId val="39771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91049"/>
        <c:crosses val="autoZero"/>
        <c:auto val="1"/>
        <c:lblAlgn val="ctr"/>
        <c:lblOffset val="100"/>
        <c:noMultiLvlLbl val="0"/>
      </c:catAx>
      <c:valAx>
        <c:axId val="48391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71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A1D-F9DE-4ECA-8046-85D31E9F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B05-E7DC-4CCC-AE04-96BB4240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63D7-2B97-47D2-A464-2A622E6B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5BF-A9C8-4FBB-830B-D8D02E0D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823-5151-4E5F-BF2C-E28B850F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F3BA-64D0-461B-AA7F-FEFFEC3C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988E-EAC7-46F7-9406-2C446D98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F95-F413-412A-8FB0-B132D1EB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0B8E-BC0C-47D3-BE22-C8578AE9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985-64AC-4230-B0F1-6B263619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7AA5-752F-409B-925E-A8E6E5E7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C47-B2F1-4FC9-B7A7-2A25B492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C4601-6E4A-46AD-909C-2E9F0A3CB9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