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58407"/>
        <c:axId val="88569826"/>
      </c:barChart>
      <c:catAx>
        <c:axId val="26358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69826"/>
        <c:crosses val="autoZero"/>
        <c:auto val="1"/>
        <c:lblAlgn val="ctr"/>
        <c:lblOffset val="100"/>
        <c:noMultiLvlLbl val="0"/>
      </c:catAx>
      <c:valAx>
        <c:axId val="88569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58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E0F-222B-46CE-813F-CF9DBD09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964-4B3D-4F0C-A883-D339AD82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2D8-CCA7-4BDF-BFC1-DEBDF4A5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A2C-2243-4C5C-AB47-FD7234B7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C95-150B-4379-A9F7-A6C353FD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81F-CF56-4C31-846D-CDF1A12B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A0C-4430-406C-9A0C-D22773CF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45A-AB37-479F-A689-065157CD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FF8-EE7F-494A-80B3-FFDFB507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6DB-0D9C-4595-A7BA-E5E5AC4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9AA-D6C6-4877-83DF-6B2BC491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7A6-E274-4759-AC7B-5AA1BD42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699B8-B72D-4FD9-95E6-98C222F81D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