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75565"/>
        <c:axId val="3965054"/>
      </c:barChart>
      <c:catAx>
        <c:axId val="14675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5054"/>
        <c:crosses val="autoZero"/>
        <c:auto val="1"/>
        <c:lblAlgn val="ctr"/>
        <c:lblOffset val="100"/>
        <c:noMultiLvlLbl val="0"/>
      </c:catAx>
      <c:valAx>
        <c:axId val="3965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75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BEA-E879-4658-B83B-AE02BEED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BDC-AF97-46B7-BF4F-0F771159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A48-F9B7-4893-8632-82CD4F14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6D9-53A4-40BD-9E26-A8EB1519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1F7-1B47-4EA4-803C-577F556B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D4E-19BC-4670-BA8F-4B0F309D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639-108D-42EB-8F57-3FEE036D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0607-6C8F-40B0-A472-9960B8EC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D31-FDEC-4438-A9C3-F23F0A6C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6A8-3B73-4F7F-AE49-14EBAF3F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B7E-BD9D-4372-8544-CE9184AE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CF64-EE9D-4994-82BC-3B85962F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DAB13-C8FA-438A-B591-469629AAB3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