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593991"/>
        <c:axId val="20969949"/>
      </c:barChart>
      <c:catAx>
        <c:axId val="505939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69949"/>
        <c:crosses val="autoZero"/>
        <c:auto val="1"/>
        <c:lblAlgn val="ctr"/>
        <c:lblOffset val="100"/>
        <c:noMultiLvlLbl val="0"/>
      </c:catAx>
      <c:valAx>
        <c:axId val="20969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5939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D972-EB97-49DD-8D4A-6D53CB12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91A2-209E-4681-AD69-8DFCDC8D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0AAA-8B74-49EF-AAD1-33A83936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9919-387B-4095-B244-D68A8A606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01E2-6411-4C78-B155-51D63303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F217-B3C3-4382-ADB8-E18EA7CD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8DC4-B4C9-471B-B035-86A12E0B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640-83A2-4D1F-8B44-31BD87777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6EC-7CC9-40EE-B54A-E7DC54D1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7279-B694-4A8F-B29D-944E239B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71B7-7D69-428D-B52E-56C318A5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5D2C-5C6E-4658-98E7-A2BE83A6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79E3C3-796E-4823-83F8-5E4DBF5841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