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413"/>
        <c:axId val="17790814"/>
      </c:barChart>
      <c:catAx>
        <c:axId val="228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90814"/>
        <c:crosses val="autoZero"/>
        <c:auto val="1"/>
        <c:lblAlgn val="ctr"/>
        <c:lblOffset val="100"/>
        <c:noMultiLvlLbl val="0"/>
      </c:catAx>
      <c:valAx>
        <c:axId val="17790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D183-386A-45F0-BFEF-7D7DBF52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3B13-2139-45A6-85EC-4AD3A3D3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0A6-5911-4451-97FE-147B2660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A82-C5B0-4704-9691-F7E7A811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474-C6E1-4E97-8FB9-02501EC9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923-AAA0-4E25-963C-1BAD7EB8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7AF-7372-42BC-B9BC-91B196F3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A0A-4D00-465B-A7D9-AA47DBC9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798-F7DE-4C64-A0C9-90B96001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A38-748B-4595-9788-26E664BB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518-6EDF-4DA3-AD1E-174052CF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CCC-3916-4D49-BC88-A3814E7E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DFF4E-E262-4FFC-A809-DFE6D2A204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