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581678"/>
        <c:axId val="68724275"/>
      </c:barChart>
      <c:catAx>
        <c:axId val="945816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24275"/>
        <c:crosses val="autoZero"/>
        <c:auto val="1"/>
        <c:lblAlgn val="ctr"/>
        <c:lblOffset val="100"/>
        <c:noMultiLvlLbl val="0"/>
      </c:catAx>
      <c:valAx>
        <c:axId val="68724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816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BD64-B373-423B-AF7C-8ABA8D6C6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BB1-6814-4A82-8616-DEFF7088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EA3-24DC-445D-A719-D774AB72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435-9993-4CFC-B90F-45CA3F03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3BB6-816F-445F-AD1C-580A681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2B8-2A38-4710-B8FA-60A9063D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1193-4902-452A-9B6A-C2BFC9A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F2C-A507-4DB6-AFA9-E4D691B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B788-642E-49C5-9D7A-48328576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00D2-B1B4-42E1-9237-AE7980DD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C00-7328-4761-8DB5-C8D05547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FF4-8E12-4D94-BE00-9778CE3E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6BFF1-03CD-4086-8176-A8BA367300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