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00717"/>
        <c:axId val="76364045"/>
      </c:barChart>
      <c:catAx>
        <c:axId val="24000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64045"/>
        <c:crosses val="autoZero"/>
        <c:auto val="1"/>
        <c:lblAlgn val="ctr"/>
        <c:lblOffset val="100"/>
        <c:noMultiLvlLbl val="0"/>
      </c:catAx>
      <c:valAx>
        <c:axId val="76364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00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FCD-DE41-465C-9603-B501B213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DE1-3CD7-4B1C-A842-52669C4C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D4E-A2C0-49A6-8687-BDE6B7D1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53DD-2B69-42A9-883C-1FD80AED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D37-084D-4E7F-8D83-CA86CB5A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5F8-3605-43E9-AD77-A63BC3CF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852-4875-47BB-82E2-4A140902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BA0-7C0F-49FF-9CCC-A5628567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03D-1E6E-46C6-83E3-4A88D292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B03-023D-4ED7-94F5-9B413A5B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8D8-4146-451B-8E23-C6624FA0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154-F74C-458F-9503-0183386E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AFBB0-AA5B-4035-93C3-567B63D1CC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