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48204"/>
        <c:axId val="26709159"/>
      </c:barChart>
      <c:catAx>
        <c:axId val="93948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09159"/>
        <c:crosses val="autoZero"/>
        <c:auto val="1"/>
        <c:lblAlgn val="ctr"/>
        <c:lblOffset val="100"/>
        <c:noMultiLvlLbl val="0"/>
      </c:catAx>
      <c:valAx>
        <c:axId val="26709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48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A14-F0EA-4587-8E53-C3F7B5A8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FB4-E68D-456C-81CF-C7516487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E1A-CFF0-45EF-ABAA-3A0CD824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E26-BCC6-40AB-B232-64EDA551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90F-D990-45B4-943D-9C9EF828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2FF-2B49-432C-915E-C850C72D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495-B5D0-4DF8-9A67-B4E51A6C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0D6-D79C-4409-886D-9A0F7AFD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FEC-4E77-4B6A-8CDF-1E0638E5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C98-9986-41B7-91CB-59FBAA8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A24-FC17-4714-A784-B678E54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21E-A615-400D-AF3A-20FF921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3005A-8F78-4117-9D8A-9982CB08C7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