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07005"/>
        <c:axId val="25673548"/>
      </c:barChart>
      <c:catAx>
        <c:axId val="68807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73548"/>
        <c:crosses val="autoZero"/>
        <c:auto val="1"/>
        <c:lblAlgn val="ctr"/>
        <c:lblOffset val="100"/>
        <c:noMultiLvlLbl val="0"/>
      </c:catAx>
      <c:valAx>
        <c:axId val="25673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07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A07-CB7A-44DA-8E4B-6A02F938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8F3-19F5-469B-9DCF-12A13025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9AA-4D2E-414F-BF30-234CA5BF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AE9-3046-4083-B396-F370E6A1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FB9-6042-4812-BBBD-93473F56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DDFB-B88B-42B9-8874-FD379D5D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299-77CC-47BD-8EF8-B5228916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8905-1293-4229-AC36-9E1ADAAE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03B-3515-4836-B47D-A375F4F0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C16-E7E5-40CD-9DA6-DDD8C4D9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6C7-4AA3-47EB-B33C-31B443EF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A8F-EEBC-4137-A89B-38A65321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415AE-40C8-4A56-91C3-A5113BDA0F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