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98677-3C99-4C88-97CD-FB2745500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C75EB-D412-4738-B9FA-1CB618100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6226A-3F36-4CF8-94B9-C0323CA2C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8C222-D6D2-4AF7-B63A-6717FBBE4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2BC60-383C-4271-AA0A-6BF521F34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7C425-3B61-4390-A1CC-984A270B2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CE87C-1DF3-4274-A60A-3F0BCC832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55C4B-C3E4-42A1-BA2F-2028668A9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7DE01-5E85-40B6-8CBC-B01FCBB35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AD279-66EB-4199-9747-F46EB09B5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6CD3D-12B7-42C6-870F-61F4341E6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F867E-A4CF-4891-AF31-72285DC55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BEB6E-84AD-482F-A90E-35D230BE49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Symbol"/>
                <a:ea typeface="Symbol"/>
              </a:rPr>
              <a:t>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Symbol, Club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  <a:ea typeface="Arial"/>
              </a:rPr>
              <a:t>►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‘Normal’, Play arrow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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MT Sorts, 5 point star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Wingdings, Smiley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8T10:46:03Z</dcterms:created>
  <dc:creator>Michael</dc:creator>
  <dc:description/>
  <dc:language>en-US</dc:language>
  <cp:lastModifiedBy>Michael</cp:lastModifiedBy>
  <dcterms:modified xsi:type="dcterms:W3CDTF">2004-08-18T10:49:19Z</dcterms:modified>
  <cp:revision>2</cp:revision>
  <dc:subject/>
  <dc:title>Slide 1</dc:title>
</cp:coreProperties>
</file>