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342-7E3A-49DC-A6F6-FA008DD7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AFF-0D53-41B7-9B19-48EE246D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1AFFEA-506A-49DB-98DB-C0534379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35B91-B298-4054-94AB-519A7217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E357F-568D-415A-B306-CCFC1D63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90D66-7598-4BD0-830B-5F9146AD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53085-383D-4EC6-89E1-EFD36D52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7A13A-41B2-476E-A77E-2526DE83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661A6-4322-47E6-AD9B-61A080F0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F3500-E68A-487C-A419-78387FA4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D693C-7598-40A1-875C-8D5FE586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3B2863-F2FB-4567-99D3-C04E9AB44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A846-EAC9-472E-85ED-7967F9AB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268BAB-2C02-47F7-9C88-D611BEB6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5914DC-EADD-4226-9748-4FA0EA4F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E96A98-8EA8-430C-B02C-31AD94D86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414B7BA-89EF-4E55-91D5-F8BF0746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5F13E6-C94A-4D41-9FCB-8D784FF7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830C05-605E-42C2-89E1-EE8D42DD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6A678F3-E03D-42EC-A884-E503DBCD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B87A2A-D1A6-4DCF-964E-8BB4B0A3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63D45E-18B7-4723-A912-274C0E84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BDAF88-E520-490B-BAD8-CEB4E1B2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F875-CA25-4E81-8123-16AC4837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6A1E19-81DC-43A0-91D3-66734238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DCBC4-3102-4D90-9B00-E7627E08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2E718-B4D5-4997-9945-C9A524C6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9858B-5589-4C93-AAB7-D7EA8000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0E717-23D7-4635-9F13-E51CF6F2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EB033-8D3A-4A03-8923-654BDD77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D6555-3BAA-461C-AE94-83C04569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5532C7-7B78-4F83-9D13-310F98DC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AFDA7-7AD3-49E0-8752-CBC2C44F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1808E-0794-44F1-B4C5-1F11D383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44D4-BBCB-4FA1-B828-6CD207E6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11400-7EAC-4396-B6E3-DF6285DD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1C6D7-DD22-4B97-AD0F-1DFB362D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B0144-0E6E-4BF9-AAA5-17111DAA0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EF9890-1DE5-47B9-8A56-8AAADEE8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BE721-02C7-4299-8ADE-FD3962A9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9990D-6949-4B2C-8573-5C2AAF18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C154B-0B9E-4DDF-8F61-8F6F0ECB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86575-4EE8-4A56-9A91-9CC26814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10C288-77E9-4AAD-AF19-D1BD5540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0BA97-7610-44D2-8C70-48977BEE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252D-5645-4062-82AC-9C4C98B2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6A7F9-3596-41CF-8E78-DA92A120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9B657-B65D-46D7-BA11-C065E231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BB315D-9297-49D6-ACD4-33779382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6C669-C8D7-4CB4-8DC5-3CC9D4EA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266C7-81AB-4979-AE21-DBF755D8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D6AA-97E0-436F-9F1D-E958BA76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019E-8EFB-413B-8018-B76E613D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D00F-711D-4A86-853E-7CD0913D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3C54C-CF9A-43F7-B525-1E4B8F52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D44D-8820-4FF7-8766-AF627A7A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EB5-D99E-4AAC-B5C8-C0F29455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7EAF-0378-4F3C-8470-67D6854D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3222-1004-4A2F-A15B-2453F6AA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1B66-BB88-40CC-AFBF-DA0B685F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9BC1-6802-476E-A9FA-2B5152A2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247B-74A2-4FFE-8F2E-4153D8A1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92876-40D1-4211-8275-10123BF1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CB62-F17D-4AFF-B7EE-004B7614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E42C9-F0AB-4531-9C6E-AA3E3535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3FAD1-99C1-4899-8906-D8991266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D2C1B-4F7E-4724-B77C-F595DB97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3E25-0FC7-4620-B05F-9616FE32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A969D-F3B7-4828-83E2-53430011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8DE06-BE5B-49FF-9E12-E0479819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25C30-1361-4CAD-94EA-817AF024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E9DF7-6174-453B-86A1-54924C53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9156A-066D-434D-9B70-C095A18F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76B8D-5F98-4879-BD7C-85420E22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6B917-8AAC-44BE-ADCF-DA0F6DBF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F904A-F483-4DDE-BD4E-99ADABA8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774CD-B84B-4EC5-A5C5-BEAA5018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03C01-CF23-411F-98A8-52CD9308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94AB-A5CB-4E0C-AFB7-3CA01031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7260D-D83A-4049-ACCC-AFD87C43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9262E-B7AB-49B1-8CB6-D38447F89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7524B0-82E9-4D32-B485-DA8D92A2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F2143-FD25-4038-A12F-F0DE6119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F88E6-10F6-49D4-942B-37D9638B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01BE2-5ED5-49EA-AAA1-475A4501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6002D-3499-4FBE-A77A-8CF930B08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28FF3-F1E6-4A5B-BA4B-C13221B18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00765-160D-4146-9935-387B4BBC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6CE3D5-ADEF-4F57-A33F-4E7CDE94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9DB-C82D-4F18-B566-2440EDB6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29DB6A-0D3C-4085-8E56-7E05BD99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442E70-703A-47DC-99A5-75A8BD60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551E85-D08A-4753-9ADE-EEC67300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33277-52D3-4BED-BC1A-FEADD003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A88489-5F9C-4152-82F1-5A95FC5A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F605C-C637-4F19-93D7-A6D27E4E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41B533-9896-4913-9595-CE309247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7692C6-D2B1-4CB4-8883-8AF82074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DD127F-4A96-40EB-9473-8206D169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F94F20-C865-4DBC-8593-2DD78F9D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080-34FA-4CD5-AC71-67DABACB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5F57AD-D68A-43CF-BD6C-2C040C05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5611C-08D1-488D-BFE0-35E22004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91747-0E70-4237-A883-AB0F84D6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FD6E3-EA73-4038-A312-A762ECDC7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D95A0-B068-4855-A014-34600BF7E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DD1F3-B50C-495A-BC7F-51F9D0E9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15968-1031-4986-974C-544DF957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D07D7-C097-4B21-B69A-2FF17349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BF5E4-D84D-4F54-83E4-46FC238A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7C5B5-5C26-427B-A0A4-B95EA145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0A84-4867-459D-A825-C8E82D10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0B320-E80C-49A5-A27E-86215E0B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41759-8C2C-4E4F-95F4-181FA63C0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445B8-4307-4D78-AE11-20C3E7AB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D9D70-E1EB-432E-94B4-5E3D57CD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3AFAF-C465-48E0-9C10-E855AE8C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74247-F261-46AF-8BD8-B3C82EAE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5E76F-C153-440D-B5BF-8E82BAE8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72D44-7DEF-4724-BC6D-A0A23F3F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A4754-690A-46A5-A4BA-058E3321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0584E-EED1-4257-BC48-694C1AD1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FAC8-33E1-44F7-83E5-09BDCE0B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5CE3D-4C90-4679-8298-ABA6F939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B3B8D-B79D-4B5C-82BF-414364B8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11E86-69FC-4766-AFAA-B4B629B6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0EBF9-E46F-4450-9AE8-D5A091C52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019FF-C7DC-4F73-A3AB-A5A3D0D2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BC47B-CD4B-4157-B44E-8A2F5739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30315-B72A-434F-97B1-15749AB4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CF50E-339C-4A6D-A07E-30D17FBC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0A021-A594-4435-BF45-B24C5F1D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07203-A8B9-4C28-8D3F-581358122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7ED-5626-450F-A4E4-A321E97F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38C76-D28D-4406-B595-91B6C13B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F9DE8-30FA-4C7C-AB40-6D053432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3AB8B-D005-4940-A8EF-0D9AB772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A06C1-73CF-46BA-BC7C-9E033AD6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75C82-F44B-4732-B98D-C8F12E54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03824-218A-423D-915F-91167ED0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B1A28-C2C4-4EC0-94B9-B4F63F933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4B92A-225F-4618-AC74-29971B41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A53EF-5249-40C3-970A-D65855A3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97F92-553F-46E8-B6FC-5D1BCDEE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C1501-91CA-407C-A1E5-B76E147B934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E466-3492-4124-828F-69467FFB42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6EE6-E445-4B6F-B85A-FCF9ED48AD2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E2A2-0A01-4F9D-99D7-251A1C946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BE3E-41ED-472E-BEE5-2AB2A978F6D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B656-41AF-4629-AD87-C03329E8E5F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51B6-7809-4168-8314-BCA587E1715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81F8-8810-4B5B-B984-26FEC436390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B5D3-981E-4216-8A84-A0776E45AC4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90D2-E737-4AA1-961D-1A514CE8CB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3914-1315-43D5-8E97-7F9064B7758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A4CF-D42B-4EA7-8099-AF6D1E4D03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26CE-FD9D-45B7-AE39-49326CCD824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5CB3-10A8-4B9A-B806-AD380D6E5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70BD-FF48-4A17-92D4-0EC3F2B546B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10B7-3ED3-49D4-BB2B-18F3C88FE4D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5B0E7-9E87-4C0C-B415-D519D39D6068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3B44-3CF9-4619-A034-1CFB4B6CAE8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9608-8F07-4221-BEB8-AE853A5BC88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32E5-161F-4FF0-AE96-F291B38F40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F80F-E082-4B18-9FE8-361AF9C19CB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1D76-0656-4873-9957-0462F621ABE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ABF1-D21B-4EA8-B90F-057ECCEAEB6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CB39-3CC4-4401-A384-698C67634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584-E1AF-4FEA-8753-B51E2AF8DF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1AA6E-319C-4E12-822B-1DC942246846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45BD6-11A1-482A-94A5-F18961201F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21F16928-F4E7-4E46-B331-1B2B72023CAB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3E35-1B3A-4C11-926B-08AAD5E76B48}" type="slidenum">
              <a:t>3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CB1106-465C-4F4A-ADE6-0ACE5DD5FB8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30B02EA-73B1-4B19-A888-EA1D66F3FCE4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3E2C5-88E6-4B49-B827-F05B8D728B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E5C9940-2299-4CB2-BB5B-325E6F937719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0E58E-F84F-4828-8575-D1B352BFDF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2444FDC-00BB-472E-AF6A-DC8FD95628D4}" type="datetime1">
              <a:rPr lang="en-US"/>
              <a:t>07/28/26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