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3928-7180-43E1-9AB9-0D50D6D3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9CB-DDC0-4D25-A365-661EF2D1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51DFC-8BF0-4F83-81CA-06FEC29B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15836-AB30-470B-9EF5-36713F2D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C1C23-9F9C-4C62-8817-DEBC5390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A940C-E8EB-4B86-8DBF-F7C91C2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B41BC-AE9D-49EF-BE6C-EC50082B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5D1D-97CA-48D1-8F37-6A04A0E5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498AB-BA0A-4B44-9E01-20A866C6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1F8AC-4B2A-427D-9C23-5ED5A808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916D9-1905-4ECB-8D03-C7D18E34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2F12FFE-BFB4-4785-ADED-A2A2EAC6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1B33-B0CA-4F4B-88A1-F1153DF2C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2924ED-0A65-47EF-8CAA-27487A5C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488205-D58D-400A-98E2-13F9DE43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8144FD-D0C4-410E-8389-65C02C5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DDA1B7-92B9-46CE-B17C-3E4541B2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17B272-7F4A-4CC8-833D-4E827923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2E9109-029A-421C-A9CA-A5BFD7FC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0AC56C-46D1-412F-B94F-3ECC5E6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B83A5A-60F7-42A8-A38B-B7A6769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4358FF-6265-4261-9634-BEE2D759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0B76FD-59F8-4711-BAA0-0A4E9754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95D-AFBD-4D51-8DAD-72B81EA0B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83B853-772E-41BE-9EF6-9DFA2EE7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A9843-CF55-406E-A395-9ADFE9CD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4B2AA-F373-4BEC-BB5A-40588659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E117B-05C5-44EB-848B-D83605E6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6C33F-C431-44E0-9687-29E4FB9A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3A165-F6FB-4B48-9FF2-61E7637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EAA2C-DA24-4298-9519-572C4CDD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FB8D2-CC33-4034-B358-7F65597C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66915-1FFB-44A9-88F8-7B6C306A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8DF25-FEA4-44E7-BDCF-21E4F2B5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3B0DC-B589-404C-8443-CDC867A2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93763-AC7C-487B-BF36-2EF2FF2C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C1958-03CE-4B4E-ADCB-852AE836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1280F-9B4B-4E03-AD0D-41099584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823AA-7DF1-4E95-A4C0-F65AF83D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8AED6-E010-4260-874C-D8C41C68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35940-B991-493B-8E9E-7E03706A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74680-C9A8-4E81-A5E3-90413DBA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57B98-4B4B-4784-83DC-78AF32A3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7825E-E0E9-46BD-B622-B9C7DA4A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BDEA0-303E-4680-83E8-AF529F16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310B-A260-48D4-9314-72F9DC61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EE136-F5A4-4839-B8D2-07AAF579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0E191C-1A13-4B1F-8AD5-ACD319B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256C1-CCDF-441B-9069-28136F1B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113EE-675D-4CEB-BE33-ACB6875D4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1D603-E247-4731-B6E4-B9E501BD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9F1A-D6AA-4051-B2D4-02E593E5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BDD6-324F-4259-B6F2-9C4C2EEAD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C02D-A8FC-4A06-BAB4-98CD946D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2954-A3F1-4CCE-B774-93839DB4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7024-76CD-4755-98A6-3B4F9659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12F1-63E6-4257-ABB9-00A9A32D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F9DC-A0BB-460C-8F6D-E7D420E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4B42-83CE-42C2-AFEE-F2CB09B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138E-5E7C-44A9-B329-96D57A9D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127A-AE17-4D2E-965C-C11CC93C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068D-A894-4050-9243-69A6B4DE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5638E-B6AB-4988-ACCA-4C963B67E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685E4-6654-4B2E-A677-7B8597CB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5C5F6-9D06-4791-BF90-D30BE48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C70D3-51CE-425C-8C77-4B1DB426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BB5ED-7AF5-48BD-9BAE-8D46A114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F40-8328-4561-981F-973F6B2D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64AC7-132B-47CB-B5BE-88A22650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CB37A-0475-4CEA-8B56-962E120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7014F-2D13-4404-A472-035176C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FACE2-46DC-4864-85B9-9B9F21AA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CCAC-125C-4F84-8F88-7966EF17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D35E-DDDB-438F-829D-AFF2E0AC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7986-C47D-4EE5-982D-C469369E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2137E-59CD-4A3A-AD66-6B6F4A24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D141F-C0F3-4C7C-9014-57E81E2D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2311E-84F0-467C-8BC3-A50961A8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CA4B-3817-4D60-B053-A76CC080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579C4-E294-475D-ACCA-A9697836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69E11-EAB5-4667-A1E3-664773E4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D46E6-9156-45BD-9CA1-EC0C2289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8B60-7301-4088-A910-9ECD6859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B23F9-1D54-44D4-8920-8B9F8BC1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88B2E-EB31-4C74-9DC3-A178170E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307E-4172-4317-BF44-8F31807B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E54D-00E5-4492-8228-3DF9EE6C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1B76-1DDB-4B46-BA56-17EDF7EC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3A6606-EEC7-4771-B34C-99300724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F9D4-C345-4131-9000-41E36E11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49140-FCA5-4B20-A042-706DB199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D7E779-2B32-45A3-8392-34D8702C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BBA31-C9DB-44E7-8D4F-C031A822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8A1E2C-E3B9-491D-8C37-961E11D5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1EC24-B32B-4B01-B9A4-042A045E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85ECD-B682-43AA-BD2E-10353615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76D3F2-2DB9-4B36-AF49-6B20572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1F077C-045B-4CEA-BF1A-B240A9B5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E67F9-7260-43B4-9E39-B00DB2FE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41D6C-B15B-492B-A119-3EEA3379A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87E-9514-4305-9C8F-BCA9BB9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8076A6-905D-4DF0-8E70-6E0889EB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CFB3-16EC-4E44-8A69-26DF2A10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9E4A-31BC-4172-A39C-70CF9AAF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4465BB-4D4A-4C29-955E-64B798DB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FF11E-FB3B-4FB5-8E9B-F54323A8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FBEB7-E866-4CB1-B45F-EF961292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C635C-5542-4F70-9326-5A582405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60E96-3E75-4D93-AE94-A1126A3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9DFC0-C44A-45BC-8D7B-2630022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A815E-7FE1-49AC-8464-1B1ED7C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471-101D-46F2-A029-B8E8F49A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0AD2-B306-4534-A91F-F7D7A74C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8D797-70B8-45B6-BBD0-146D5FDE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BFCA-77DF-45A2-B533-458E9B76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686F35-22C2-4604-BC16-8F41320B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D1CBF-3192-4E6A-A2AD-3156E746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1F47-8D87-4EC7-A27B-B7B6FBE3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423E9-3DA9-4EBF-ADCD-9163513D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2438A-C477-4A35-A2E5-3BA62B30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162FA-E4B5-405B-8B81-3AF1C60B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46E2-289A-4973-B69C-D85D8B44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3806-A706-4587-B898-F8526678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3AE03-A6AA-4331-AD2D-D1CB8E2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854BB-3D6C-463E-843C-D90B712D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4F143-EE0C-4740-B2D2-74156B436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71CA4-9385-42DC-9244-A3A7B872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38918-0B04-406D-AD37-E1C04D5F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6CC7FD-389C-4979-955E-B2F4F7402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0D769-8D15-41EA-B050-88A8CE8E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655AE-6106-476A-8E53-4218ACA5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2867F-6E69-4C09-94A2-752ABACB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7B913-50BC-4179-BD5C-5EC815A2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61F-9C4C-4E04-8E32-62748A6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BE2C8-AB3E-4C48-AFD0-8DBE2AEF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54EC3-579B-421F-821B-DB7D79C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30456-0CDA-4390-8166-F3B1921D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02E0C-9CCD-46A7-A4C4-1AE81151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5E23-5899-4534-ADDD-DD844C22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03F7D-5A43-43E1-AEC7-F3960E86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5306-3906-4CB7-83C6-262E4333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0F879D-B4A9-4ED3-BA6A-E184F3C11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27D11-565F-4AA4-9FB7-A60E60D9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23304-B974-4BBA-9F40-CB7C6144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3CAC-AE8F-4178-A49D-72245361755B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F589-A977-4509-A163-DDD4F8004B3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667-7514-4772-8D0F-B1305756110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3618-7E45-40CF-8C36-3A2FFACF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C14B-3C75-431F-8F61-BEDFFAA8485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778E-4BA2-45B2-A2E5-505D9ADBD0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3AA91-0514-4114-A4B0-8AB4B286F01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F962-0B2F-40B8-A04A-521C4740641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4B8E-95DE-4BE5-B3E7-7ADF97CB1BD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436-EABD-4AB2-9D97-315745E8787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1BD7-7EE0-4F93-A809-926E37068D6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0044-D77B-421C-BDC2-23EBB11FC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45E-C871-4C67-918C-DDF6476A20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7CFC-9680-47BE-A29B-8A928EA83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0B71-59E3-4DD2-B61F-0F7C2A6420F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E79A-9D2F-4E95-BFD7-AAD490C8FCBF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77F5-FFF4-406D-BE86-6C65130CAF5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EB1B-C4BA-4FA8-A094-D3F5B3303D4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AA3E-3614-488D-9806-F64AA308372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C7B2-3556-4FF6-9A61-341C5E8660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AD37-D2F3-4606-8FB3-2C487F25935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472C-D2EA-4F36-9069-99C14DEAF3C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8260-42A6-474D-879E-45EA63CEB02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D840-EE67-4A1B-AE3D-184BA387E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B61-EE70-4181-A4D0-0BD1BDEE724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107C7-8DA8-4511-A09E-EFE8786BDF1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89BB3-5464-4055-A296-DB55EAF808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B613DE8-A1CB-4748-A3BD-3788315D7CA4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79D7E-72F2-4132-8F93-0297AEA4A222}" type="slidenum">
              <a:t>3</a:t>
            </a:fld>
          </a:p>
        </p:txBody>
      </p:sp>
    </p:spTree>
  </p:cSld>
  <p:transition>
    <p:comb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3B58CB-16CA-4612-AB9D-C0C0347BF45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7C68625-9473-4278-89D0-DC3D020554B4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D0BD0-186C-4EAB-ADF1-DC497360EBC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3638034-DE33-46D2-AC1F-A9A176ECF0E6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7000"/>
                            </p:stCondLst>
                            <p:childTnLst>
                              <p:par>
                                <p:cTn id="3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9000"/>
                            </p:stCondLst>
                            <p:childTnLst>
                              <p:par>
                                <p:cTn id="3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A3224-7D5C-450A-98E7-781B807442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9D3D14D-83D8-4614-92FF-627D5EA02649}" type="datetime1">
              <a:rPr lang="en-US"/>
              <a:t>07/28/26</a:t>
            </a:fld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